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AB2D-61DB-4BB1-A253-B6B2F21B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0B98-1A5E-4E51-8397-12CC1930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4627-8D3C-4099-B267-5ECCF9827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9972-6920-400C-8881-5ADC8929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B523-F04D-461D-999D-ADA2EDC0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EBFC-632E-4ECD-9516-BD36FD82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6457-B4FB-45D4-AF7E-542EEEFC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FFCF-86CC-4766-B359-D0778FA4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8BB6-C70D-44F2-90B4-724C158D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CD01-9288-4B74-AF14-5E392770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4D6E-771B-4DA7-BA8D-3716E1AD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B81B-ECA5-4E7A-BC22-BE38C4A6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F3B0-7B58-4717-9653-4EE0D45CD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763120" cy="5810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0" y="0"/>
            <a:ext cx="50576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space Invitation Ste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48400" y="228600"/>
            <a:ext cx="3196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 are in yellow bo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50576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space Invitation Ste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861840"/>
            <a:ext cx="8763120" cy="5810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50576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space Invitation Ste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693432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50576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space Invitation Step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763120" cy="32734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50576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space Invitation Step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458200" cy="5341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50576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space Invitation Step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2624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3154320" y="6461280"/>
            <a:ext cx="5996160" cy="3988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’s it!  Enjoy your experience with the wikispac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1:26:49Z</dcterms:created>
  <dc:creator>fcps</dc:creator>
  <dc:description/>
  <dc:language>en-US</dc:language>
  <cp:lastModifiedBy>fcps</cp:lastModifiedBy>
  <dcterms:modified xsi:type="dcterms:W3CDTF">2008-10-16T01:27:06Z</dcterms:modified>
  <cp:revision>1</cp:revision>
  <dc:subject/>
  <dc:title>Slide 1</dc:title>
</cp:coreProperties>
</file>